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D46-B283-403D-A2E7-C43C53A3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940-077A-468C-8A13-01C0D4D4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3469B-878B-4E95-84EB-C3A2E1C6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84485-4011-41BB-9B52-A0A7D59F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9F429-F74F-4BB2-9FE2-3A7898DC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0C17C-A1AC-4A80-A0D9-7E9B9685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C59B6-2D41-4C25-8C30-C0050663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4AB89-F5C0-42DC-A5F3-62378641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4BB04-1253-4853-8CB4-54DE2033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92B65-DB40-4B1C-8C93-058D34D1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22FE9-4DD1-4EB8-BBDB-9B11E02C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E5234-3C48-4923-A753-ADC67CF8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653-1CC8-491B-8727-D1FDB56E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0736E-9764-4C17-8919-5EC2A458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3E0E4-0526-4F64-B93E-E1DB590A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57374-3E93-46CA-9772-4687A344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18A4E-0455-4D0B-AF0C-E231CB73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4C9A5-D02C-4721-B724-6BBBCC7A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67F05-9F19-467A-8A83-2D64D4EF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340F8-80BC-4970-9A58-4A8CDF97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CEBF8-5B23-49D3-BA55-3BD76C67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F5654-23B6-4AA2-BC69-3CC6805F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39C80-8AAF-4354-B039-769A4DED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EDE-6EEF-4359-8D80-9C8C7108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48AA6-2BD9-4E2B-AC55-97773CE2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8785A-BECF-4A7A-AEE6-288307C1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69321-A449-44E2-A1E4-FF72F78C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867E7-0975-4D8B-A907-2BDD5345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EDF7F-CEB6-4034-BB1A-1BBC3F43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D8203-465A-41D6-8502-2F157FDB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72C7A-FF02-4774-82D0-AEF6FE60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F5F37-DE38-4426-AEBF-E9AC54FA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65CFB-CD27-432D-B862-AF7E8393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B2A49-713B-4743-B0AF-10AAB9EC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D7F2-EE79-406E-B96A-F55714C1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0DEA5-2F46-48B2-88EE-44453BAD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8A808-9D78-4162-B66C-777DEA89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E4C8E-6399-4D9B-9FC2-07287934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4CD50-122F-4CBE-A603-1803FA4B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9CCDA-9C95-4244-BD63-C72026F3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852EE-3C44-4B50-976B-4C908418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286A9-E207-4028-8409-8F8C8707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084B0-0356-4349-AA96-E733E282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82463-C039-414A-9FD0-C76F0744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2F312-0921-459C-B12C-01CF8FF2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C078-A1B5-4194-9CFF-5513A94B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7C5EB-8A0F-4FDB-95D0-2A9CE99D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8426A-D9D2-4CD3-8C53-7F7B86AF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C7A02-C687-4268-B20D-1C26AB46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C3524-B90A-4D41-9995-FB70A809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E1B92-0573-4171-B603-7BF19F06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F4750-B3CB-49A9-96BE-747D6296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035EE-6DDE-4470-96E5-C35CB1D3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D3B98-B6A4-45DC-A9F6-FD0597D6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DE741-F2B6-468B-BF79-0E338F29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D5A61-5C00-4C4E-8A02-4C8EEF2C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71E1-4EDC-4C7A-A443-03FCC6FC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BC1E4-78E4-4DE8-B538-56ECB2DB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40CA9-D648-4686-BA2D-D7C73763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F5476-C6DB-4D1B-B2C2-8124853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66643-451A-492A-AF0D-8219EBCA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2EB57-9661-4330-8ADA-315DED62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F1344-6064-4CE3-A1C3-A4BDC4A2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B593D-7F53-4458-873B-0D56B088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3FFA0-8D80-49CD-A4AF-F03D8AFB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610C8-BDFB-4B35-ACBA-33AAE913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C566D-0D80-4361-94A5-578A02B0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AAD7-4EF3-4FA3-8917-38363C82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58432-9823-4CE0-B66D-A94C5ED8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E44CE9-812D-4095-B05A-C6AA346A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8125F-2DE3-49C6-ACAF-9CA030AA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D224B-22AC-4144-9DB5-F891698E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06F2D-F2F1-49B1-AA46-74E5558D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59E20-622F-4BE9-91BA-985FA932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AD0B1-E6FC-43AB-BFA7-3D30CE67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8A706A-8B82-47DB-8FD0-358CB444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8F4C6-1724-4FBF-B8E1-B298F7A9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3D88AB-8075-44D5-9657-479D0E35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A8A9-B184-4D85-A1D3-2FBA347C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BC90E2-89D4-465B-826B-718BEC47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95BD8D-39BC-4819-8320-8B02BF30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EF30C-7BD5-49E0-A9F5-907CD4B2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D31962-E11B-4EB6-A319-A24029A7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9CF908-9D87-4404-B3A4-3A6A5509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9BDC6D-428A-4E08-B133-336F82C5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93CB1-B066-41CA-9D13-698AF539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E6CA0-BB48-4F9B-811B-F0641DCD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77E39A-1C2D-4550-806B-D35ED029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28974A-77EA-4ECC-9C6C-53602C4A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7578-70FD-410A-B607-7A4D61CF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3E78AA-C593-4169-A328-8A37550C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EF3C4-DEAE-422D-AECE-C9353AAF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08BAD-0417-4F09-AC3E-AAA6F53C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F007D-1912-4A53-B241-4CED4ADB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D4470-4962-4043-812B-87E7AF8C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F2C7DC-E785-48A5-91E0-FE8A63A1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59CB09-A7A6-4449-BD36-310E5C4F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F5C315-9FE8-42D5-B519-4145BF14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3D60D-AC0C-459F-A397-F96B3DFC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2CF6E0-1F74-4BF6-A986-B03835D3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5B3E-5773-44C5-83E4-C5AE712D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CEBDAF-BF9E-43CC-A400-A36464A0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038720-EF8B-4CD4-8B25-8F64B966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6F39B7-1928-4E77-A36E-BE68B2FD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D82676-B8CD-474D-AEFE-53B2ADD4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6EF6A2-38E1-4083-9AD6-947BE3CC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6EF9C1-C32C-43EB-B4E0-196B7E96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F2904B-8EFF-4DFE-8A43-452F3618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066FFE-9F59-41BC-96D5-594952D5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AC21C-03BE-4486-8BC1-DC0B2B07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74B3C3-3950-4B63-8BD9-0FD33051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9FF-A1BF-42F4-AB0D-1D664F1B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D479-DE72-4608-AFEC-217DF238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0DDA47-FB4A-4E21-B430-8C94B3C4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396473-FFF4-45B2-AC8A-A3776004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D5E66E-5841-4D4D-A7E9-D1397505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28727-A8D3-4740-BDED-3DFF526A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E4CA49-BAB4-4C33-9D2D-5C224DA2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C053F-1661-434A-88D6-BDFE598C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723D7F-637D-4854-96EA-82E5E2A4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8BC8F-69C2-4A9F-90AA-F0452C46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F0AF24-0F2F-4D12-A19D-8883C731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0E857D-EC98-4000-B6C7-2C49A307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A57C-1730-47C3-8B26-2A87ED64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C2D7F-8EE7-43AF-819E-CD08A590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8339CE-99F3-42B8-B7D5-9B75FF09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B13555-C7CD-40A6-A19B-D22BEAE3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ABB4F1-DC31-4F0B-837B-ED0EBCB6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553C83-DF3C-4376-9865-11BCEB6D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E86B12-F045-4F14-B863-FFD02490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1AC5B9-4D8A-4A79-9E9C-F3612FE9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F94EF8-869A-4E73-89FF-05F6A59C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C8804C-795F-4C33-8886-236AAB57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34994B-99D7-4C7E-B194-C05F3784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3307-23BA-4DCF-92D1-C2F25023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6AC671-F36F-41DF-9357-022330A2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83BEC8-992A-4B68-8074-C866D649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99A19-1F8D-4E78-B3AE-4097F8F0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2C7705-5095-430B-BAA8-5F0AEF43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0D9E29-9998-4CAE-933E-4F67833A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6C18B1-D962-49D3-AD8F-ADB76218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7BCE12-88F1-4916-A3DA-2CD092EE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4F19DC-9ECF-4D8B-A898-BE3DB510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25DAF8-B399-44CE-A1A7-AC55ECAA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CFACAA-A7B7-412F-AAC3-EA890EFD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4E9B-F6EF-4217-8CBE-96B78587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0C1D33-F900-4416-AD86-4E0000E9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25318C-7A2E-4312-B446-0F0317AF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E29DD6-58E6-400D-9E89-0F6B2A60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CDB79D-FBFB-40BD-B4F7-A6BAB5CE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ACC10F-2340-4D6C-AE61-8F4EBC56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1D151D-21A0-483B-B95B-F8665F73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76701A-4E43-45D2-8E67-34A6E542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5F11DF-2D6C-4F0A-B71F-7189E787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E596F1-A6FA-42C4-8DAB-78508441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549522-38B0-4C2F-AF6E-A81B5149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7AC1-C8A4-49A7-865C-EB2B2E9A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DDAA6F-5361-43EA-994D-A851D04D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966B4E-1BE8-441C-B4A0-2D443475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053389-4FF8-4DF8-9CD9-A38C65F9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383821-5998-4505-BE2F-00D7797A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B97B6D-1329-4E71-BD62-15B7E45C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2579C4-609A-424D-9BE8-64ECD641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8DC51E-0690-44C2-A06B-ADFB9EE6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F641ED-D17F-405A-8F0C-43598F62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2ABD01-6D1A-43C2-BDC4-0887E940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29C808-AD21-4B8A-B6A6-8A652CA7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94C90-1AEA-4C5A-9C5B-B55E4F7F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015EE4-A87D-4408-B559-234095DA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6C5C6D-D774-4347-AF68-2D22C928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F28780-CB9C-4EF3-9746-D72DED9E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79709-A62B-4035-A46C-56D4C111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4724-D3FA-454F-8B74-9236282D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20FD6-7554-4EB7-A254-2DF52B2B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85103-2866-4675-ACB0-97799C03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391-BCA4-44DB-9A21-418A7DD1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E6A23-410B-4021-B9E5-0D06C767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4A36-AC99-45BA-B6A3-1668063D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2135-9CDC-466B-A053-ADF54024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D6855-84AD-4B50-8E92-CE4836EB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6CAE2-5721-4F8A-B571-B39C278C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6049C-1AB2-4CEC-8F04-EEC40C28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8D11-8176-4CBF-840A-428A4F60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2B6B2-68B9-4CD8-A37E-5C29D718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F695D-E9C5-4DDF-80CF-21B1824A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E5646-8648-4986-8F71-1B2D5314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0FE-D8B8-4D2E-B147-B0B08518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E37CC-1D99-4372-8BB6-EF98777C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30F5-FBE7-40F4-823F-90130AEA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36A1F-1F59-4EA5-8979-D6AF7383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B549-A038-4AB1-9F58-F42911C3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7EDC5-4DCA-496E-A631-B9B77CCD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40F9B-8778-460D-9154-A9F3C815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1F3C3-07C3-4D4C-9471-4DF7478A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2BF7D-4D99-490D-A694-EFF367EC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BBB5A-76E5-48AF-9D08-4EC402DB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BFD02-D885-4CDF-BA5E-D6A08A80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4BF-CF12-4504-930A-F5A83250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BC78B-FC97-4600-804D-FA1EF93D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2DA81-A118-4A0C-91A3-0E4064BD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667EA-512D-4E1C-A502-DA2D3125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4C822-26CE-453C-8E34-473966E6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725A4-B845-403B-9173-E8B5C04C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0299E-B419-4EE9-BA62-3FE9670A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B0A5B-9255-41C6-A61D-C105DC54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12E8C-699E-4A40-AFDC-A782B6F2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8C0FC-246D-4A48-916B-C27D125B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192CF-33EF-45A9-BD04-67C4A32E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275-6CA5-440F-B2C7-17B5B745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AB478-7385-4267-BACE-7E0DB479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57D0E-8E06-433B-97C4-AEA0DF70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632B1-BB72-44D4-94F8-305FA773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6C64B-FC65-4637-A747-61D8A4BC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350D6-69C4-4771-B7B0-C1B25224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9E2BA-11F0-47A5-8DD0-1FD266F7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5958A-1DF1-4BBC-8A18-6B2B7064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34EA5-0548-4060-8392-66B30334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93E0C-182A-42BE-A400-62022E1D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62A2C-D3DD-4B15-9937-9E4260CB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A11-84BC-4BBB-B15A-1B88AA25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9B08E-D1D0-4E98-AB80-B321181C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48D77-CF44-47D7-A2E3-250B3D78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A4A58-FEF7-4706-81C7-F14DE0F4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835BC-B218-4E22-B627-84827C8C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69360-308A-4187-8321-D1F8AFBA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9375F-EB0E-46DC-90A5-D2DC766F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DFFE9-012F-4682-B20B-C233D245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254E0-C49F-4B86-A2AF-C0B3898D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F7BE5-6550-4F97-B0CA-938C8E5B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05093-F144-48D3-8A48-69555F08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4C4-47E2-4757-9381-F2CADF95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DE12B-12A7-428B-B3DE-28FAD3B7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52615-07E5-4B5C-A042-A03ADB71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BF610-8CBF-4D5B-A358-F105E262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4C93D-56AF-466B-ACBA-30E3B2E2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5F67D-0F1B-40C7-A70B-7FC24255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F53E6-A308-424D-97AC-D80D3E92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B6474-3E24-4C34-9F4F-868B3697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E637D-5AFE-41BF-A668-BC9BD718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19B85-324E-4283-A2D8-C348BE71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4F428-3B4A-4D17-853B-DE119C96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96C-0C3A-4B33-ADFD-A7892C11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4BFA5-17FF-4593-A67E-0668C030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2874F-D8D7-4593-A553-C3F80ECD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28AEB-C56A-4CC8-B50A-815982A8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2A085-024A-4F90-9778-D99690EA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43A73-0A31-4627-B493-108209FB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0014A-85E1-47A9-B684-1F9F0D2D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A9EF0-9D05-4792-B21A-8EFA63F1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D308D-7DB7-4358-9ED8-85115D26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82F00-60FA-4B0F-8906-264C91E1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41F9B-CEB6-4A49-8DA4-1CC9F44F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C549-2513-4EE5-8723-00D4A17CC1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5514-7777-4E2A-931D-B17F03032D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1C47-1F3E-40EC-97F4-29AF7E396B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C2F1-7E14-439F-9173-ED37938AAD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03A8-9AFC-4D0C-86F1-5C33B9D003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6EF1-32CF-472C-BE1A-D67B8039C8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E22A-9379-4723-8C8D-86E8072B2E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A60B-6F91-414D-BF95-D475EB6FF4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518B-64E6-46D3-ADF2-961FB6648B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812C-BEF9-4953-8539-93DB267FB9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7612-566A-4741-9242-DE0CBCE76B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0BEE-3AA5-4909-A901-1C645EAF5B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38D1-3E44-46F6-8F92-E1A11B1659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1FD7-F268-4C20-A93E-1596A44534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F793-1760-4F42-A4C1-D16E382BA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30FF-289A-4CF3-BF73-AAE0F42684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2DC4-202C-47B5-8CC8-1FBEF242A0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B22F-5C09-4111-BE3C-61670D5B53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AC33-977C-4499-AB8C-DFA3305EEE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6FFE-B243-45ED-BB81-1AD22FF326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7B62-202F-4939-BCB1-3CB41D9E10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50AB-CC00-4FFD-8DC6-B9AEE3AB4E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8B96-4DFC-4955-95C9-08F5AA14AB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9BD1-5169-4E2C-B87D-6E158AA274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6813-71C0-4A93-8535-19EAF4DF9F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05AB-8A80-4F42-8804-3D6BB320AB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7C2F-CC0F-4590-BB40-950DEC8B92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8E0E-BB52-4C56-9D73-5DA69326B2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9515-AE89-4C56-A6BD-7565BFE684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1641-AE92-463A-B5AD-62D9EA764E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00AC-6B9F-4E93-A253-C2E5F8EEA6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D94D-D5C7-43B2-9176-DAFA49D446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6D07-273B-4657-A603-896993F176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5F66-C13D-48EC-8145-39A0F543B2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4EED-164A-45CD-BA1F-9F2A7E229A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E577-D108-48C9-8962-C33F07DAF4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42DB-ECB7-4FC0-A979-4C9413F53F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C589-8F1B-4DC0-B705-AB5B17491F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B1FB-E5D7-43FE-8E8D-1F412FA6AB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5ED2-2EC5-4707-8E40-2C55791FEC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852560" y="2376360"/>
            <a:ext cx="543888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69633" descr=""/>
          <p:cNvPicPr/>
          <p:nvPr/>
        </p:nvPicPr>
        <p:blipFill>
          <a:blip r:embed="rId1"/>
          <a:stretch/>
        </p:blipFill>
        <p:spPr>
          <a:xfrm>
            <a:off x="324000" y="1171440"/>
            <a:ext cx="8591400" cy="175284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69634" descr=""/>
          <p:cNvPicPr/>
          <p:nvPr/>
        </p:nvPicPr>
        <p:blipFill>
          <a:blip r:embed="rId2"/>
          <a:stretch/>
        </p:blipFill>
        <p:spPr>
          <a:xfrm>
            <a:off x="930240" y="3068640"/>
            <a:ext cx="7962840" cy="23335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6877080" y="4259160"/>
            <a:ext cx="1224000" cy="4431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4356000" y="4894200"/>
            <a:ext cx="79236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68609" descr=""/>
          <p:cNvPicPr/>
          <p:nvPr/>
        </p:nvPicPr>
        <p:blipFill>
          <a:blip r:embed="rId1"/>
          <a:stretch/>
        </p:blipFill>
        <p:spPr>
          <a:xfrm>
            <a:off x="314280" y="704880"/>
            <a:ext cx="85154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67585" descr=""/>
          <p:cNvPicPr/>
          <p:nvPr/>
        </p:nvPicPr>
        <p:blipFill>
          <a:blip r:embed="rId1"/>
          <a:stretch/>
        </p:blipFill>
        <p:spPr>
          <a:xfrm>
            <a:off x="500040" y="776160"/>
            <a:ext cx="8143920" cy="53056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611280" y="803160"/>
            <a:ext cx="4968720" cy="4431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468360" y="1438200"/>
            <a:ext cx="4968720" cy="4431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611280" y="2133720"/>
            <a:ext cx="4968720" cy="8636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324000" y="3119400"/>
            <a:ext cx="8569080" cy="4428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395280" y="3716280"/>
            <a:ext cx="8569440" cy="4428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7"/>
          <a:stretch/>
        </p:blipFill>
        <p:spPr>
          <a:xfrm>
            <a:off x="250920" y="4424400"/>
            <a:ext cx="8569080" cy="4428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8"/>
          <a:stretch/>
        </p:blipFill>
        <p:spPr>
          <a:xfrm>
            <a:off x="179280" y="5013360"/>
            <a:ext cx="8569440" cy="4428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9"/>
          <a:stretch/>
        </p:blipFill>
        <p:spPr>
          <a:xfrm>
            <a:off x="250920" y="5614920"/>
            <a:ext cx="856908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66561" descr=""/>
          <p:cNvPicPr/>
          <p:nvPr/>
        </p:nvPicPr>
        <p:blipFill>
          <a:blip r:embed="rId1"/>
          <a:stretch/>
        </p:blipFill>
        <p:spPr>
          <a:xfrm>
            <a:off x="243000" y="1009800"/>
            <a:ext cx="8658000" cy="48384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2"/>
          <a:stretch/>
        </p:blipFill>
        <p:spPr>
          <a:xfrm>
            <a:off x="4211640" y="3716280"/>
            <a:ext cx="503280" cy="4428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6948360" y="5157720"/>
            <a:ext cx="50328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00160" y="1295280"/>
            <a:ext cx="8743680" cy="42674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2959200" y="2492280"/>
            <a:ext cx="720720" cy="3175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8028000" y="2492280"/>
            <a:ext cx="865080" cy="3175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585720" y="2865600"/>
            <a:ext cx="457200" cy="3171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1403280" y="3284640"/>
            <a:ext cx="720720" cy="3175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2700360" y="3284640"/>
            <a:ext cx="720720" cy="3175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5940360" y="3683160"/>
            <a:ext cx="720720" cy="3175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8"/>
          <a:stretch/>
        </p:blipFill>
        <p:spPr>
          <a:xfrm>
            <a:off x="2208240" y="4221000"/>
            <a:ext cx="720720" cy="3175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9"/>
          <a:stretch/>
        </p:blipFill>
        <p:spPr>
          <a:xfrm>
            <a:off x="3780000" y="5170320"/>
            <a:ext cx="43164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9410" descr=""/>
          <p:cNvPicPr/>
          <p:nvPr/>
        </p:nvPicPr>
        <p:blipFill>
          <a:blip r:embed="rId1"/>
          <a:stretch/>
        </p:blipFill>
        <p:spPr>
          <a:xfrm>
            <a:off x="209520" y="676440"/>
            <a:ext cx="8724960" cy="5505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8317080" y="1916280"/>
            <a:ext cx="360360" cy="3171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8317080" y="3933720"/>
            <a:ext cx="3603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58373" descr=""/>
          <p:cNvPicPr/>
          <p:nvPr/>
        </p:nvPicPr>
        <p:blipFill>
          <a:blip r:embed="rId1"/>
          <a:stretch/>
        </p:blipFill>
        <p:spPr>
          <a:xfrm>
            <a:off x="223920" y="758880"/>
            <a:ext cx="8696160" cy="5838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792000" cy="3175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684360" y="1535040"/>
            <a:ext cx="792000" cy="3175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8317080" y="2852640"/>
            <a:ext cx="360360" cy="317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8388360" y="4581360"/>
            <a:ext cx="360360" cy="3175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6877080" y="58183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3805200" y="6219720"/>
            <a:ext cx="5047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7352" descr=""/>
          <p:cNvPicPr/>
          <p:nvPr/>
        </p:nvPicPr>
        <p:blipFill>
          <a:blip r:embed="rId1"/>
          <a:stretch/>
        </p:blipFill>
        <p:spPr>
          <a:xfrm>
            <a:off x="257040" y="1271520"/>
            <a:ext cx="8629920" cy="4314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7956720" y="2565360"/>
            <a:ext cx="5029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56324" descr=""/>
          <p:cNvPicPr/>
          <p:nvPr/>
        </p:nvPicPr>
        <p:blipFill>
          <a:blip r:embed="rId1"/>
          <a:stretch/>
        </p:blipFill>
        <p:spPr>
          <a:xfrm>
            <a:off x="276120" y="1290600"/>
            <a:ext cx="8591760" cy="42768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7956720" y="2565360"/>
            <a:ext cx="5029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55300" descr=""/>
          <p:cNvPicPr/>
          <p:nvPr/>
        </p:nvPicPr>
        <p:blipFill>
          <a:blip r:embed="rId1"/>
          <a:stretch/>
        </p:blipFill>
        <p:spPr>
          <a:xfrm>
            <a:off x="295200" y="133200"/>
            <a:ext cx="8553600" cy="65916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8028000" y="1341360"/>
            <a:ext cx="50328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54276" descr=""/>
          <p:cNvPicPr/>
          <p:nvPr/>
        </p:nvPicPr>
        <p:blipFill>
          <a:blip r:embed="rId1"/>
          <a:stretch/>
        </p:blipFill>
        <p:spPr>
          <a:xfrm>
            <a:off x="233280" y="1933560"/>
            <a:ext cx="8677440" cy="29908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3276720" y="3789360"/>
            <a:ext cx="1150920" cy="4428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3995640" y="4403880"/>
            <a:ext cx="11509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2231" descr=""/>
          <p:cNvPicPr/>
          <p:nvPr/>
        </p:nvPicPr>
        <p:blipFill>
          <a:blip r:embed="rId1"/>
          <a:stretch/>
        </p:blipFill>
        <p:spPr>
          <a:xfrm>
            <a:off x="252360" y="1590840"/>
            <a:ext cx="8639280" cy="36763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3132000" y="3454560"/>
            <a:ext cx="503280" cy="4428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2700360" y="4729320"/>
            <a:ext cx="863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2:55:3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